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380C-B985-415D-ADCD-13140FB17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8823-9093-458E-9C29-B3B7E9086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376F-74D2-44EE-AF68-43E38B309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76AD-EE33-4548-9294-6D2BF6B18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04664-8608-4EDD-A6AB-8D6A75B45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C6653-E765-4A11-AC97-5C2E7348A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D62C0-2204-4ABE-88C4-8C826BACA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78186-5814-401C-86B0-35802776B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81514-8035-4A0A-82C7-0DC3A802D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08E39-C8FC-4CF6-818C-061E939FB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8632A-2BE6-4CEC-B213-5B05ABE8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A99B-83FE-4895-B06D-F7934767A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A0C70-0804-407B-B0B7-E79C635C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18EA6-40D5-4627-9C0B-464DEF83E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B91B7-DDB0-4C42-84B9-2461BEB34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D4449-27E3-4D51-A8E1-B0E0ADB69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8C796-A28A-450C-9061-1A59CD4AC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A67C-A314-435B-AB29-FEDFE7732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AAF5-50C2-45BB-9DA8-B53932134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C06F-64B0-4C32-9267-A4445F4E8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85CB-D9E1-4EA2-921F-5C916FE3F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5C0C-B027-4EB5-965A-E878B762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8291-6329-4F90-9EE7-570F4538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A8D1-FC40-4728-97DB-06667379C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FE34C-38F2-47BF-9F2C-5750992BA4A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2E6FB-1CE2-49AF-973B-488BF4A370D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Geschäftsabschluss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6840" y="3765240"/>
            <a:ext cx="845820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er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infach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hritt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ür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s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kaufsgesprä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Vier Schritte zum Geschäftsabschluss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setz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ch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g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un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agen Sie direkt nach dem Geschäftsabschlu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enden Sie das Verkaufsgesprä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hließen Sie das Geschäft vertrauensvoll 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Versetzen Sie sich in die Lage des Kunden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o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egen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e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rteile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ür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c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es ist die wichtigste Frage, die sich der Kunde stell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1560" indent="-41868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ringen Sie den Grund für den Kauf in Erfahru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1560" indent="-41868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rinnern Sie den Kunden an den Grund seines Kauf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1560" indent="-41868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sprechen Sie nur, wie der Kunde von diesem Geschäftsabschluss profitier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Fragen Sie direkt nach dem Geschäftsabschluss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b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darf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hre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und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rkan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 haben eine Lösung vorgeschlagen, die sich am Bedarf des Kunden orientie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 haben sich das Recht erarbeitet, den Kunden jetzt zu fragen, ob Ihre vorgeschlagene Lösung gefällt und er zum Kauf bereit ist... also fragen Si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Beenden Sie das Verkaufsgespräch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hr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und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iß,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r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öcht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hr Kunde hat Sie darum gebeten, und Sie haben die Lösung geliefe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e länger sie sprechen, desto eher denkt der Kunde, Sie hätten noch keine Lösung unterbreit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rechen Sie an dieser Stelle vorerst nicht weiter, um dem Kunden die Gelegenheit zu geben, sich zu entscheid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Schließen Sie das Geschäft ab</a:t>
            </a:r>
            <a:r>
              <a:rPr b="0" lang="en-US" sz="38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schäftsabschlüs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sier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trau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nn der Kunde überzeugt ist, dass Sie Vertrauen in Ihre Lösung haben, dann wird er ebenfalls Vertrauen in Ihre Lösung hab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trauen entsteht durch Vorbereitu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Üben Sie Ihre endgültige Präsentation in einem Rollenspiel, und bereiten Sie Antworten auf mögliche Einwände vo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4:53Z</dcterms:modified>
  <cp:revision>24</cp:revision>
  <dc:subject/>
  <dc:title>Closing The Deal</dc:title>
</cp:coreProperties>
</file>